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3F0F-F543-414D-8262-8B9605527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67D1-BFBB-48F7-A1DC-AF631D1DB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FB0C-9DAB-4001-B79D-201D74D19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C6C9-F1AA-4815-A419-E238C1C92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4515-E3E8-4955-9643-0C621E8FA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1CBE-67F2-4B6E-B056-52A96D38A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AF77-4A06-4BCC-80B1-F74EA9901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49F8-9446-4F6D-9FD9-FCEB089F9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A120-C058-4D26-9CC9-26755A9F5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C5BD-16B8-433E-B02F-913A2D769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8779-A11B-40FC-881E-420A21CEA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1BDC-B65C-426F-A062-18789CAE4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5B2F2-D15B-4CF5-8184-12C24CB418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37840" y="217440"/>
            <a:ext cx="442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ural tube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857680" y="1219320"/>
            <a:ext cx="3429000" cy="3429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44600" y="5222880"/>
            <a:ext cx="839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ural plate-&gt; neural keel-&gt; neural rod-&gt; neural tube-&gt; spinal c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eds in and anterior to posterior fash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The image “http://www.ans.iastate.edu/research/reecy/images/reecy/reecy_image5.gif” cannot be displayed, because it contains errors."/>
          <p:cNvPicPr/>
          <p:nvPr/>
        </p:nvPicPr>
        <p:blipFill>
          <a:blip r:embed="rId1"/>
          <a:stretch/>
        </p:blipFill>
        <p:spPr>
          <a:xfrm>
            <a:off x="3838680" y="457200"/>
            <a:ext cx="3247920" cy="53244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378800" y="3657600"/>
            <a:ext cx="151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ural cr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895480" y="3352320"/>
            <a:ext cx="45720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48120" y="3886200"/>
            <a:ext cx="5331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360440" y="14112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art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6019920"/>
            <a:ext cx="88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wo fields fuse into a tube, which undergoes looping and addition of neural crest ce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4T21:56:26Z</dcterms:created>
  <dc:creator>Melissa Haendel</dc:creator>
  <dc:description/>
  <dc:language>en-US</dc:language>
  <cp:lastModifiedBy>zfin user</cp:lastModifiedBy>
  <dcterms:modified xsi:type="dcterms:W3CDTF">2008-05-19T20:50:24Z</dcterms:modified>
  <cp:revision>5</cp:revision>
  <dc:subject/>
  <dc:title>Slide 1</dc:title>
</cp:coreProperties>
</file>